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78D5-7AA9-4470-ACAF-24BD3A72A642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553B-59CD-452D-B1CA-C5E83B75B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0F36-047B-4E32-AA7F-D9495287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F25D-18D5-4188-95B7-D65229F60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F1B3-1ED6-444D-8FFB-86DFAF20A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0024-BAF4-4ED8-A3A6-62275D128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8E0F-0E91-4A63-84BA-6A429FD4E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4990-B159-4747-88EE-356D06737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A5C3-28A2-494A-9EBD-98984D1B9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00F8-6B2A-424B-BA26-56545B0B7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E9A8-2CD8-4821-8F96-0BECA6EEC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1637-6628-4241-A666-25F53E311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423-115B-4C05-AD02-63B50EE6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4CB-02B3-44C3-B6BB-E2439DB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E8F37-E268-42CD-8A43-581F8E00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934ED-5558-48F2-81E8-2635FB44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8C12C-0BE2-46C6-ADF2-6BE592FF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98FE9-48D8-4A56-BA0A-BDE8DBF0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416CD-F191-4C1F-9ADB-9D1FCAD7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47220-62EA-463A-AF5E-B31D4FC1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2DB59-F181-4702-92AB-5051D38B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915F9-429F-4AFC-A159-46FB2F6B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E06D9-680B-4FBE-8D04-7374A7A5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EBE57-3087-4FEC-83DA-E54D0B2D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E93-1FC4-4C60-B144-6E383B03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FEB3F-9358-4B63-85CC-1A313BD1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7AEC9-6278-4B68-BB3D-80404E02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23AF3-865C-4D60-8B8E-23957F68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8E38F-052E-4115-BD10-61F3AF95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068B9-FB30-4EE0-81F1-00490A9D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140F3-25C5-49F4-937E-F9CF57BE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A8710-C2CF-4001-9546-DB3DECE2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32408-F8B2-47A2-827E-3D1E5835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66A26-B14C-4D30-AD2D-6B050C1E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59128-7EFB-4609-9FF2-2BF38D57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690-7D59-40D9-A4D3-89B0E52E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CE450-D114-400B-A200-EB7D8143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7D82E-9A6F-4232-BB55-AB010273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7BDEA-3EF5-4C78-BA49-57AE4158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8CFAB-6948-4B34-ACE9-76F4BBD8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9DC04-1D40-4DF7-B60D-6E177685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95AC6-A9B7-4875-96FF-2360C113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1C127-3A36-4462-B601-A7E6CC06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8B805-1A10-4B0F-9AB8-F2F4D043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CDD78-8A2E-4EF0-AE8F-5E9C4C5E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AB0EB-8DCF-484F-821B-D807079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CC97-1090-49E7-B958-3C18D703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CD849-7643-44FD-8A02-1E5D4A5D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A8576-F1DB-4AF0-A203-CC9A0F34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181E6-6B95-4651-89E7-0D48CBEB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7168F-A55E-44E0-AC7B-00C82B04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6D89B-809C-4C18-833C-58CF32B9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0C149-2708-48CC-A246-9C761F77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CF948-EEF4-44BE-8384-7AD877C4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9065C-A492-4EBB-8E89-5E36E5FC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3A5C5-19CF-4FEE-B4DC-4EA93C7D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E501D-E4F4-49B6-9007-561271B0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30F1-CE16-4241-8417-941CE633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77217-F243-4F2F-A462-899764BD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341CF-71D3-409E-AC9E-CD9D5773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8308E-2B8B-4C0D-8561-6C437C4F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02F6F-5ADA-4460-A225-9C3CA650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3F683-91DE-4139-A2E2-983ACF54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3D5815-2E36-4E3F-BB2E-787964364C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421E7B-DE4B-404D-A1EA-2931BA28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FEBBB5-09F9-4AAC-BB8C-F8B2C7DA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386377-5865-47E0-9BD8-9A1E8587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C3D1C2-2F14-43EA-8B16-96947BE6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3A67-26D9-479B-8AC5-E3FFEAB5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C03A77-29BF-493B-83A5-4F26A35F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E6BA2E-2830-4760-9602-C8816450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2E308A-3149-488D-8992-5583D97B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62495A-516F-4817-8D31-3F6495A6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17BD7E-44E6-4B37-A9E4-EB83B5AB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E13ADB-82CD-4E9F-BAAF-B83A366E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DDF688-1A6B-4D64-A3FB-42A04E3605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8601-CAA8-432C-B35D-31ADA740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2692-F47E-4FBC-833B-07BA753A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F7C4-7CBE-41B5-98A0-CB709BA5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8F9B-1DB8-4CA3-9AFA-FD4D4521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7CA-141A-4C88-BC26-A5C472CD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D7A0-497F-41B7-8AD8-21F4DC0D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DE62-43A6-4060-85A8-07A504AA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9FA2-41D2-4F3B-8658-A397A4F2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956D-520D-40B6-9E20-10F80EB1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6130-69B4-4C40-9ECA-EE4ABEC8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9C014-FF15-45B0-9D3A-CAFF752A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8B7C-658C-4C97-B37F-524AD286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8F7F-9B20-4710-AAD8-D7667C49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D13E-A1DB-410C-A3FC-6336CEAC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7BBD-C85E-4F5D-AC3A-0B30376C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191-78C0-4F86-9245-E50A5E97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76EB-7B2C-4D90-8FC7-9FC20EDE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96458-7419-4838-A57B-4519F2EA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2694B-CD87-4E84-A477-1B3AE17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8DC2-D9DC-47CE-A65C-D161EDFF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2030-C9E9-4B0F-B924-427BA4D0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FBAE-DC4F-47E0-822A-2E4A1775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BECB-6A51-4EFA-8DF3-7940F79D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9EB28-94E4-41CB-AD5A-41FB79D8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1A88E-AAF2-4BD3-9387-E1BF056F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71486-48CF-4ACE-B34C-0631C675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D12-DF69-4424-90CC-A4810F8C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B8464-4816-4ADB-A204-EF43E2AF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0E13-3FB8-4F26-8DD8-896CA9CE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F5AF1-1C0D-46A8-A305-D080DA3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AC19A-2495-418F-9E27-02DA66F0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626A9-CA47-4154-877E-D31AC8DD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6F35E-0B91-4B0C-A26E-1B592C1E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27A5A-18CD-4AD6-A36E-2D50B765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7421-1936-40A5-8935-24C66387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AD0C4-6A7D-4337-88B1-64796060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96EF4-FBDD-49D6-8C29-664308EA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854-5F51-4D2C-8AF1-8AB47186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F6CB-0954-45CE-A1A8-F97E6706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125C4-BDD5-4648-A91E-7C1E92E6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7B04-3E34-4771-9FEF-B3882724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A1ABB-6224-453E-820C-A7030799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C0B01-D885-4E3C-ABE4-616E8402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FB2AA-3A3C-4629-9975-524A0B07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21745-453C-493C-8B64-C438C6B2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ADD95-5654-4E99-BBEC-A7E2CA1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7E37E-75E2-4D5C-820E-0FFFBF9B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0ABA0-88D3-4DE3-8795-C211A2C7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969-0F7E-4751-BE21-FAA1A10C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91F10-45A8-43F4-9F27-935EBBE9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EEACF-056F-4398-AC77-6398BEFA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650FF-D571-4CEA-9830-83461024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418C1-B68E-4D93-84BC-162655C5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D3155-D503-48F9-9C62-EF615C42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9EF5-0CB8-4D11-B2AB-E00D4017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CC736-D426-452A-8E8D-9C400CAF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FD84B-333D-41F3-A51C-9BB50997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F2351-0A5A-4ABB-AEAF-5BA913DF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3357E-8408-4499-BF08-1BA50CAC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17A-4B70-4D07-A667-5CE72482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74227-31B0-415D-BA73-446A5661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D71F-D208-45A1-9682-E796F5FD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88381-F571-4CC7-9FDE-74DB9A69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BE67F-D7BB-498C-84B7-BC2CB6BC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76317-4D75-4377-9395-4CF5D297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95E11-8B70-4A9F-9E8B-728A1CB1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A0879-2C29-42B9-999D-CD15B0F6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CACEA-F4EC-4A6C-BB2D-698AE268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893FE-9242-4858-A7A2-5F3FD0CE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E58CF-79F6-4EB1-9478-E5F1023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E68-08B3-45B6-B30C-ACB96BA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36D4C-D8EF-48FC-9436-5EF18158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7693-4ACF-4FEE-B2A8-9443906D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F60A3-2CDC-4937-95FA-5B0C1DA1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94640-632F-43EB-92BA-8B738ADF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7CFE2-9875-4754-9156-CE6E221E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F67E5-E02D-4FCB-B55E-F5B6FA50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A850E-AFAE-4C1B-B451-6D5807BF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32B0B-C289-43DD-B91E-CB14E306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05678-9D1D-4FF5-9142-376900A1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52064-0D4B-465D-B8E2-B8CF0E20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E18-9F6B-440B-9F9E-0FBB1101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42B11-CC06-4C2B-8B53-48C4C1EA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BB63C-FD38-4E26-929C-0765F87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DC59E-CF56-41B7-90DD-D66E33F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86562-C66D-4E16-8CCD-4824C64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8CF53-E8E3-484B-A158-2074BFCA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0EAA-CD6E-4758-AF89-DDDDC598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46AEE-5D1F-4A07-AC6B-FE7A2B96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7AD9A-40A8-4E44-B2BA-1ACFDCF9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D1BE2-87B0-46A3-A711-D4311E4C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67C42-274D-49B5-8E0E-1D6B9B8E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6B87-E775-42A8-99FC-A34261B5FD4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5F85-B4F0-4925-8953-628E080F731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EB4A-677F-4794-9A26-64F2F56582F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5768-C135-44EB-AAE6-A508BE8857D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C8A3-16FB-4301-8E7F-83F865FE0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4E9E-8CBB-4B04-9002-9B745D3D438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2135-41B4-433D-B083-05F15DF125A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11F0-70DD-4A54-AC3F-5F828842349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E840-03C0-41E4-A7C4-467F2E3C0FE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FEC2-709A-4507-9A56-7B377C8D27D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2D26-BEB8-4DB7-9C72-14CBB8E7E12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4E13-4510-4852-AE0F-1690997C928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58EB-4179-4F81-A61E-524392565CD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2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Η  δομή της σχολικής τάξη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αι διαμόρφωση περιβάλλοντο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1"/>
          <p:cNvSpPr/>
          <p:nvPr/>
        </p:nvSpPr>
        <p:spPr>
          <a:xfrm>
            <a:off x="1298520" y="2060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9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0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</a:t>
            </a: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6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1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2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ποιότητα του Σχολικού Χώρου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3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5.1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Η Σχολική τάξη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στο δημοτικό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0-09-27T09:12:55Z</dcterms:modified>
  <cp:revision>152</cp:revision>
  <dc:subject/>
  <dc:title>Παρουσίαση του PowerPoint</dc:title>
</cp:coreProperties>
</file>